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2.wmf" ContentType="image/x-wmf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ED2-AFC3-4B2E-A1E3-337CC4F2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285-A6AF-4951-BFC6-A663A56A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A9F-8A68-47DE-B886-FB0CB4A5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CEA-BCD9-4506-86CC-0F016725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C7F-85DB-48CC-A715-21E8DEFD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837-C494-4420-91EC-D56E9E8D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FB9-8EE8-4D7A-8CA5-D3DC76C7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F6D-1F2C-4F51-ACA2-E86D9793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F0D-86F4-4A47-9147-F8AA828C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C27-3564-4C25-8402-FAB6F07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B7C-683C-4943-9009-8BAE7BE2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E41-6311-438E-B7EE-2E56A47C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AE32-749A-433E-895A-2B10EEE1B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1836720"/>
            <a:ext cx="7162560" cy="318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he Facto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hat A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l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572000" y="624852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©Mark Place, 2009-2010</a:t>
            </a:r>
            <a:endParaRPr b="0" lang="en-US" sz="9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9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ww.LearnEarthScience.com</a:t>
            </a:r>
            <a:endParaRPr b="0" lang="en-US" sz="9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recip"/>
          <p:cNvPicPr/>
          <p:nvPr/>
        </p:nvPicPr>
        <p:blipFill>
          <a:blip r:embed="rId1"/>
          <a:stretch/>
        </p:blipFill>
        <p:spPr>
          <a:xfrm>
            <a:off x="2286000" y="901800"/>
            <a:ext cx="4570560" cy="50544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6095880" y="0"/>
            <a:ext cx="2862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rographic E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472680" y="449280"/>
            <a:ext cx="2910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Nevada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geomart.com/images/raisedrelief/ny.jpg"/>
          <p:cNvPicPr/>
          <p:nvPr/>
        </p:nvPicPr>
        <p:blipFill>
          <a:blip r:embed="rId1"/>
          <a:stretch/>
        </p:blipFill>
        <p:spPr>
          <a:xfrm>
            <a:off x="152280" y="-36360"/>
            <a:ext cx="8839440" cy="68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987480" y="790560"/>
            <a:ext cx="7170840" cy="5276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660680" y="460836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indward sides of the Adirondacks &amp; Catskills receive a great deal more 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4572000" y="2971440"/>
            <a:ext cx="2286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V="1">
            <a:off x="4572000" y="4419360"/>
            <a:ext cx="952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848640" y="790560"/>
            <a:ext cx="19047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eward sides of the Adirondacks &amp; Catskills receive much less 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 flipH="1">
            <a:off x="6553080" y="1752480"/>
            <a:ext cx="6098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5638680" y="2057400"/>
            <a:ext cx="137160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How doe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Orographic Eff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indward S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eward S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2200320" y="3962520"/>
            <a:ext cx="4743360" cy="2609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952880" y="26668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ol, mo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800600" y="320976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m,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7"/>
          <p:cNvGrpSpPr/>
          <p:nvPr/>
        </p:nvGrpSpPr>
        <p:grpSpPr>
          <a:xfrm>
            <a:off x="609480" y="830160"/>
            <a:ext cx="8153280" cy="5435280"/>
            <a:chOff x="609480" y="830160"/>
            <a:chExt cx="8153280" cy="5435280"/>
          </a:xfrm>
        </p:grpSpPr>
        <p:sp>
          <p:nvSpPr>
            <p:cNvPr id="98" name="AutoShape 12"/>
            <p:cNvSpPr/>
            <p:nvPr/>
          </p:nvSpPr>
          <p:spPr>
            <a:xfrm>
              <a:off x="609480" y="830160"/>
              <a:ext cx="8153280" cy="54352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6" descr=""/>
            <p:cNvPicPr/>
            <p:nvPr/>
          </p:nvPicPr>
          <p:blipFill>
            <a:blip r:embed="rId2"/>
            <a:stretch/>
          </p:blipFill>
          <p:spPr>
            <a:xfrm>
              <a:off x="1106280" y="1427760"/>
              <a:ext cx="7161120" cy="423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landtemp"/>
          <p:cNvPicPr/>
          <p:nvPr/>
        </p:nvPicPr>
        <p:blipFill>
          <a:blip r:embed="rId1"/>
          <a:stretch/>
        </p:blipFill>
        <p:spPr>
          <a:xfrm>
            <a:off x="1417680" y="990720"/>
            <a:ext cx="6307200" cy="55213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ev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319320" y="304920"/>
            <a:ext cx="243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degrees C/10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727280" y="1095480"/>
            <a:ext cx="5688000" cy="46670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ev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230640" y="4697280"/>
            <a:ext cx="3500280" cy="281160"/>
          </a:xfrm>
          <a:prstGeom prst="rect">
            <a:avLst/>
          </a:prstGeom>
          <a:solidFill>
            <a:srgbClr val="0000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10080" y="2514600"/>
            <a:ext cx="35211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14 of the ES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live in the troposphere.  Temperature decr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le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5257440" y="38098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tmp_monthly_07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559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666720" y="6095880"/>
            <a:ext cx="7810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summer, temperature is strongly controlled by elevation -- cold at the higher reaches of the Alaska and Brooks Ranges, and warmer in the low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How does elev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elevation _________, th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temperatur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352680" y="3657600"/>
            <a:ext cx="0" cy="2209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3321000" y="5867280"/>
            <a:ext cx="228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192480" y="601992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 rot="16200000">
            <a:off x="2147040" y="44845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3581280" y="3657600"/>
            <a:ext cx="198144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567240" y="2421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334120" y="29354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16"/>
          <p:cNvGrpSpPr/>
          <p:nvPr/>
        </p:nvGrpSpPr>
        <p:grpSpPr>
          <a:xfrm>
            <a:off x="1981080" y="380880"/>
            <a:ext cx="5257440" cy="6152760"/>
            <a:chOff x="1981080" y="380880"/>
            <a:chExt cx="5257440" cy="6152760"/>
          </a:xfrm>
        </p:grpSpPr>
        <p:sp>
          <p:nvSpPr>
            <p:cNvPr id="121" name="AutoShape 12"/>
            <p:cNvSpPr/>
            <p:nvPr/>
          </p:nvSpPr>
          <p:spPr>
            <a:xfrm>
              <a:off x="1981080" y="380880"/>
              <a:ext cx="5257440" cy="6152760"/>
            </a:xfrm>
            <a:custGeom>
              <a:avLst/>
              <a:gdLst>
                <a:gd name="textAreaLeft" fmla="*/ 340560 w 5257440"/>
                <a:gd name="textAreaRight" fmla="*/ 4916880 w 5257440"/>
                <a:gd name="textAreaTop" fmla="*/ 340560 h 6152760"/>
                <a:gd name="textAreaBottom" fmla="*/ 5812200 h 6152760"/>
              </a:gdLst>
              <a:ahLst/>
              <a:rect l="textAreaLeft" t="textAreaTop" r="textAreaRight" b="textAreaBottom"/>
              <a:pathLst>
                <a:path w="21600" h="25278">
                  <a:moveTo>
                    <a:pt x="4780" y="0"/>
                  </a:moveTo>
                  <a:arcTo wR="4780" hR="4780" stAng="16200000" swAng="-5400000"/>
                  <a:lnTo>
                    <a:pt x="0" y="20498"/>
                  </a:lnTo>
                  <a:arcTo wR="4780" hR="4780" stAng="10800000" swAng="-5400000"/>
                  <a:lnTo>
                    <a:pt x="16820" y="25278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15" descr=""/>
            <p:cNvPicPr/>
            <p:nvPr/>
          </p:nvPicPr>
          <p:blipFill>
            <a:blip r:embed="rId2"/>
            <a:stretch/>
          </p:blipFill>
          <p:spPr>
            <a:xfrm>
              <a:off x="2700360" y="639360"/>
              <a:ext cx="3818160" cy="563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838080" y="571680"/>
            <a:ext cx="7467840" cy="571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dentify five fac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t affect clima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 expla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w eac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ffects clima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cean Curre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03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sst_brown"/>
          <p:cNvPicPr/>
          <p:nvPr/>
        </p:nvPicPr>
        <p:blipFill>
          <a:blip r:embed="rId1"/>
          <a:stretch/>
        </p:blipFill>
        <p:spPr>
          <a:xfrm>
            <a:off x="1600200" y="68580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5105520" y="5715000"/>
            <a:ext cx="2028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Gulf Stre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838080" y="1409760"/>
            <a:ext cx="7467840" cy="403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How do ocean cur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rrents: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m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rrents: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ol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f323"/>
                </a:solidFill>
                <a:latin typeface="Arial"/>
              </a:rPr>
              <a:t>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img.bhs4.com/b1/d/b1dc401ed8d09f2b67fea16e98cc2e93b1ce75a2_large.jpg"/>
          <p:cNvPicPr/>
          <p:nvPr/>
        </p:nvPicPr>
        <p:blipFill>
          <a:blip r:embed="rId1"/>
          <a:stretch/>
        </p:blipFill>
        <p:spPr>
          <a:xfrm>
            <a:off x="152280" y="11145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img.bhs4.com/b1/d/b1dc401ed8d09f2b67fea16e98cc2e93b1ce75a2_large.jpg"/>
          <p:cNvPicPr/>
          <p:nvPr/>
        </p:nvPicPr>
        <p:blipFill>
          <a:blip r:embed="rId2"/>
          <a:stretch/>
        </p:blipFill>
        <p:spPr>
          <a:xfrm>
            <a:off x="8470800" y="33480"/>
            <a:ext cx="657360" cy="655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www.eoearth.org/files/172101_172200/172155/sap3-1-final-all026.png"/>
          <p:cNvPicPr/>
          <p:nvPr/>
        </p:nvPicPr>
        <p:blipFill>
          <a:blip r:embed="rId3"/>
          <a:stretch/>
        </p:blipFill>
        <p:spPr>
          <a:xfrm>
            <a:off x="25560" y="797040"/>
            <a:ext cx="89802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img.bhs4.com/b1/d/b1dc401ed8d09f2b67fea16e98cc2e93b1ce75a2_large.jpg"/>
          <p:cNvPicPr/>
          <p:nvPr/>
        </p:nvPicPr>
        <p:blipFill>
          <a:blip r:embed="rId2"/>
          <a:stretch/>
        </p:blipFill>
        <p:spPr>
          <a:xfrm>
            <a:off x="8470800" y="33480"/>
            <a:ext cx="657360" cy="65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tips.woodlandtree.com/images/transpiration.gif"/>
          <p:cNvPicPr/>
          <p:nvPr/>
        </p:nvPicPr>
        <p:blipFill>
          <a:blip r:embed="rId3"/>
          <a:stretch/>
        </p:blipFill>
        <p:spPr>
          <a:xfrm>
            <a:off x="0" y="33480"/>
            <a:ext cx="3247920" cy="405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www.shoalwater.nsw.gov.au/Education/images/experiments/transpiration_experiment.jpg"/>
          <p:cNvPicPr/>
          <p:nvPr/>
        </p:nvPicPr>
        <p:blipFill>
          <a:blip r:embed="rId4"/>
          <a:stretch/>
        </p:blipFill>
        <p:spPr>
          <a:xfrm>
            <a:off x="3352680" y="3809880"/>
            <a:ext cx="5805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urrent Sea Surface Temperature Plot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78600" y="144360"/>
            <a:ext cx="286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titu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838080" y="571680"/>
            <a:ext cx="7467840" cy="571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How does latitu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latitude ________, the a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temperatur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3352680" y="3429000"/>
            <a:ext cx="0" cy="2209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 flipH="1">
            <a:off x="3321000" y="5638680"/>
            <a:ext cx="228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192480" y="579132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°           Latitude     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2147040" y="42559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3581280" y="3429000"/>
            <a:ext cx="198144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334120" y="236232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301920" y="18352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2"/>
          <p:cNvGrpSpPr/>
          <p:nvPr/>
        </p:nvGrpSpPr>
        <p:grpSpPr>
          <a:xfrm>
            <a:off x="325440" y="1504800"/>
            <a:ext cx="8623440" cy="4127400"/>
            <a:chOff x="325440" y="1504800"/>
            <a:chExt cx="8623440" cy="4127400"/>
          </a:xfrm>
        </p:grpSpPr>
        <p:sp>
          <p:nvSpPr>
            <p:cNvPr id="57" name="AutoShape 11"/>
            <p:cNvSpPr/>
            <p:nvPr/>
          </p:nvSpPr>
          <p:spPr>
            <a:xfrm>
              <a:off x="325440" y="1504800"/>
              <a:ext cx="8623440" cy="412740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21"/>
            <p:cNvGrpSpPr/>
            <p:nvPr/>
          </p:nvGrpSpPr>
          <p:grpSpPr>
            <a:xfrm>
              <a:off x="511200" y="2034720"/>
              <a:ext cx="8251920" cy="3067200"/>
              <a:chOff x="511200" y="2034720"/>
              <a:chExt cx="8251920" cy="3067200"/>
            </a:xfrm>
          </p:grpSpPr>
          <p:pic>
            <p:nvPicPr>
              <p:cNvPr id="59" name="Pictu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511200" y="2034720"/>
                <a:ext cx="4083120" cy="306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702320" y="2034720"/>
                <a:ext cx="4060800" cy="304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7"/>
          <p:cNvSpPr/>
          <p:nvPr/>
        </p:nvSpPr>
        <p:spPr>
          <a:xfrm>
            <a:off x="228600" y="93600"/>
            <a:ext cx="8686800" cy="744480"/>
          </a:xfrm>
          <a:prstGeom prst="roundRect">
            <a:avLst>
              <a:gd name="adj" fmla="val 16667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41680" cy="518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743360" y="993600"/>
            <a:ext cx="3519720" cy="5137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330120" y="152280"/>
            <a:ext cx="8483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loseness to Large Bodies of Wa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-2028960" y="-21031200"/>
          <a:ext cx="8229600" cy="517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3" descr=" "/>
          <p:cNvPicPr/>
          <p:nvPr/>
        </p:nvPicPr>
        <p:blipFill>
          <a:blip r:embed="rId1"/>
          <a:stretch/>
        </p:blipFill>
        <p:spPr>
          <a:xfrm>
            <a:off x="6629400" y="1523880"/>
            <a:ext cx="228456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-2028960" y="-20513520"/>
          <a:ext cx="208080" cy="485996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859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 </a:t>
                      </a:r>
                      <a:r>
                        <a:rPr b="0" lang="en-US" sz="13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  </a:t>
                      </a:r>
                      <a:r>
                        <a:rPr b="0" lang="en-US" sz="13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17" descr=" "/>
          <p:cNvPicPr/>
          <p:nvPr/>
        </p:nvPicPr>
        <p:blipFill>
          <a:blip r:embed="rId2"/>
          <a:stretch/>
        </p:blipFill>
        <p:spPr>
          <a:xfrm>
            <a:off x="228600" y="1562040"/>
            <a:ext cx="2382840" cy="373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Polar projection"/>
          <p:cNvPicPr/>
          <p:nvPr/>
        </p:nvPicPr>
        <p:blipFill>
          <a:blip r:embed="rId3"/>
          <a:stretch/>
        </p:blipFill>
        <p:spPr>
          <a:xfrm>
            <a:off x="2728800" y="1585800"/>
            <a:ext cx="368640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How does closeness to a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body of water affect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__________ the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 summers.  _______ wi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1144440" y="3429000"/>
            <a:ext cx="3427560" cy="2927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84760" y="3541680"/>
            <a:ext cx="329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 B is closer to a large body of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s temperature line is flatter (mode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395440" y="1809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de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693800" y="2990880"/>
            <a:ext cx="28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es A &amp; B are loc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same lat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066680" y="2286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o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800600" y="2286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cli11"/>
          <p:cNvPicPr/>
          <p:nvPr/>
        </p:nvPicPr>
        <p:blipFill>
          <a:blip r:embed="rId1"/>
          <a:stretch/>
        </p:blipFill>
        <p:spPr>
          <a:xfrm>
            <a:off x="914400" y="1623960"/>
            <a:ext cx="731520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WordArt 7"/>
          <p:cNvSpPr txBox="1"/>
          <p:nvPr/>
        </p:nvSpPr>
        <p:spPr>
          <a:xfrm>
            <a:off x="6095880" y="0"/>
            <a:ext cx="2862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rographic E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2:02:27Z</dcterms:created>
  <dc:creator>Mark Place</dc:creator>
  <dc:description/>
  <dc:language>en-US</dc:language>
  <cp:lastModifiedBy>Builder</cp:lastModifiedBy>
  <dcterms:modified xsi:type="dcterms:W3CDTF">2014-01-29T14:56:19Z</dcterms:modified>
  <cp:revision>34</cp:revision>
  <dc:subject/>
  <dc:title>Factors that Affect Climate</dc:title>
</cp:coreProperties>
</file>